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6B5-0F96-424A-85E3-DD3C7111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644-35F0-496A-8607-E09CE46A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ACF-C98E-45E9-811D-1BB81C7B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602-F2B7-4725-966D-F6F0097C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7B8-5CE3-4D5E-9830-FDBC9487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2494-7433-4E21-BE27-224CFEE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542D-035E-48AE-87D4-4D61048C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A67-8C3C-4ACF-BEC1-08A5A30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3D52-E736-41D6-A648-F449755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D081-C19B-4EED-B764-14EA48C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CD9C-EF08-4AC0-9DEF-F778D54D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5AC-D421-4B82-8D53-1847CFF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97B8-CB9E-4D51-BDD4-409537ED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DC3E-B5DD-4EF3-A933-51F6D99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2837-981A-4A62-B6BE-CBF29FD7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B31-E804-4C2A-9723-AC3D1963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6624-2D06-45EB-8D9E-931BDD0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86D-E7F4-44FD-84CA-72B9CAC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7CA-5823-4BCA-83CC-BA358E6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6AB-0269-49F5-84CE-28FFD85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C67-BA62-4399-87B2-4790A608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E4C-4D85-4628-8BB8-A1D28C0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C6F-78E2-4488-8180-798EF58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635-932B-4095-B93A-B963246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A20-CB35-47A0-84F1-F36F6FA0A5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C6D-C9C5-4688-83F0-B3BBCB618E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632C99BF-9D38-4AD8-8B9B-F3A02838AD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4AA1C48-2F18-49D9-B363-53730433BCF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 θεος ἐν οὐρα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ADE150F1-776C-480F-B4B5-283F832AA4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25B34244-69FF-455E-83B5-2044C5B033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oly people loves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EED84F7A-D68A-4D0F-8CD4-23C928CCEF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casting out the wicked dem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the good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5910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514980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7196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ὀχλος ζητει τον μον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344A7C04-0F77-4730-A2A9-CDE7B82351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0B5310DE-D1D4-437B-9996-CE4F3F0CA55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μεν ἐν τῃ συναγωγ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3C4E643A-22ED-4F39-B8BD-091E3FE5F3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υἱος ὁ τυφ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blind son see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29B0E8BF-6906-4739-805B-ED5DAC9D03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22400" y="5460840"/>
            <a:ext cx="32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Jewish sister is good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D337406C-A74A-48B5-8833-1B66BAD8F9B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oves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:Practice </a:t>
            </a:r>
            <a:fld id="{B7117330-F486-48D3-8834-F966E4856E6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9-03-03T17:32:16Z</dcterms:modified>
  <cp:revision>50</cp:revision>
  <dc:subject/>
  <dc:title>Slide 1</dc:title>
</cp:coreProperties>
</file>